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4A3D-1B5D-4EE2-A26D-0DB76AB7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E2B5-0D24-445C-BF1B-BA57C97C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852-8302-48A0-9268-4094EE1E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8865-86F7-4A8D-9267-EABFEAD9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8F79-4066-4266-8128-F1EDD338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5C96-18D5-48FA-9A0D-D6E2B7FA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1B78-86CB-4D6A-9703-5AB50F84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34A6-9746-4D94-925C-2A741601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1153-C9EE-4C89-84CB-9933B0E0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36F9-C2EE-4ED9-A773-87736D6D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6960-B35D-415F-AAB1-5166A53A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79F3-4812-44C4-8A3D-103BB5C1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A946-0472-448F-86A6-FB73A4B60E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30446;&#24405;.ppt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章   异常处理和诊断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981080"/>
            <a:ext cx="80010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内容摘要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处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++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异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异常类捕获程序异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提供的用于诊断程序的宏调式程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16400" y="6095880"/>
            <a:ext cx="607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返回目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.3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诊断服务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74880" y="1773360"/>
            <a:ext cx="62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 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SSER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ERIF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RA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72400" y="609588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返回第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SSER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76212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个宏的用法如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SSERT( booleanExpression 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中的参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ooleanExpressio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个表达式或指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参数不为真，这个宏就显示一个诊断信息对话框，并终止程序的运行。如果参数为真，它不做任何事情。诊断信息按照下面的形式显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SSER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80880" y="152280"/>
          <a:ext cx="6600960" cy="57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660096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600200" y="1371600"/>
            <a:ext cx="838080" cy="2819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362320" y="4343400"/>
            <a:ext cx="2209680" cy="1371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142640" y="1295280"/>
            <a:ext cx="2438280" cy="1981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12952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ERIF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76212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个宏的用法如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VERIFY( booleanExpression ) 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中的参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ooleanExpressio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个表达式或指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参数不为真，这个宏就显示一个诊断信息对话框，并终止程序的运行。如果参数为真，它不做任何事情。诊断信息的显示形式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SSER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相同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SSER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ERIFF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个宏之间的差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21932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SSE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仅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调试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bu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版本中有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VERIFF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发布版本中，它仍对参数进行测试 ，但是当参数为假时，不弹出诊断信息对话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RA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76212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个宏的用法如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TRACE( exp 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RAC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个在程序运行时跟踪变量数值的便捷方法，它的用法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完全相同，他的输出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bu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。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3733920"/>
            <a:ext cx="6629400" cy="25599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m_value=10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(int i=0;i&lt;5;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value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ACE("m_value = %d", m_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72400" y="617220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返回第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.1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处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++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019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r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ro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个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字来实现异常处理 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8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r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块：标志可能会出现异常的代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块：紧跟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r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块，里面包含了处理异常的代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row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块 ：抛出一个异常，激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块中相应的异常处理代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228600" y="0"/>
            <a:ext cx="9372600" cy="266385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#include &lt;iostream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lass CEx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Except(int ExCo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ExCode = ExCod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GetCod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m_ExCod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m_ExCod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har c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ut &lt;&lt; "at begining of try block"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ut &lt;&lt; "throw 'char *' exception? (y/n):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in &gt;&gt; c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ch == 'y' || ch == 'Y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hrow "error descriptio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ut &lt;&lt; "throw 'int  1' exception? (y/n):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in &gt;&gt; c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ch == 'y' || ch == 'Y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hrow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ut &lt;&lt; "throw 'int  2' exception? (y/n):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in &gt;&gt; c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ch == 'y' || ch == 'Y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hrow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ut &lt;&lt; "throw 'class CException' exception? (y/n):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in &gt;&gt; c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ch == 'y' || ch == 'Y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hrow CExcept(5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ut &lt;&lt; "throw 'double' exception? (y/n):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in &gt;&gt; c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ch == 'y' || ch == 'Y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hrow 3.14159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ut &lt;&lt; "at end of try block(no exception thrown"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atch(char *ErrorMs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ut &lt;&lt; "'char *' exception thrown; exception message: " &lt;&lt; ErrorMsg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atch(int ErrorCo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ut &lt;&lt; "'int' exception thrown; exception code: " &lt;&lt; ErrorCode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atch(CExcept Exc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ut &lt;&lt; "'class CExcept' exception thrown; code: " &lt;&lt; Except.GetCode()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atch(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ut &lt;&lt; "unknown type of exception thrown"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ut &lt;&lt; "after last catch block"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914400"/>
            <a:ext cx="86868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异常在关键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后面的代码块中扔出，则控制立即传出这个块，如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块后面有适当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块，则控制传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块处理异常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块前面有关键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括号中的声明。如果这个声明中指定的类型符合产生异常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给出的数值类型，则控制传入关键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后面的块。如果类型不符，则程序寻找另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块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块中的代码执行完毕后，控制传入块后面的第一个语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上面的程序中，如果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扔出的是字符串，则进入第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块；如果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扔出的是整型数据，则进入第二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块；如果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扔出的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Excep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类型，则进入第三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块；如果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扔出的是其他类型的数据，则进入最后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最后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块的声明是一个省略号（…），而不是具体数据类型，表示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块可以接收前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块扔出的任何异常，但由于没有参数，不能访问扔出异常提供的值。如果有多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块，则省略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块应该放在最后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.2   MF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异常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066680" y="990720"/>
          <a:ext cx="393408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90720"/>
                    <a:ext cx="393408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7772400" y="609588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返回第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FileExcep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21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个描述异常原因的成员变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m_caus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包含与错误原因对应的代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m_lOsErro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包含相关的操作系统错误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m_strFileNam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包含出现异常的文件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152280"/>
            <a:ext cx="89917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Verdana"/>
              </a:rPr>
              <a:t>m_cause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可能为以下值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FileException: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没有错误发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FileException: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neri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未指定的错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FileException: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ileNotFoun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找不到错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FileException: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adPat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全部或部分路径无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FileException: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oManyOpenFil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超出允许打开的文件数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FileException: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cessDenie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能访问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FileException: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validFi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试图访问一个无效的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FileException: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moveCurrentDi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试图删除正在操作的目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FileException: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rectoryFu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目录个数已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FileException: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adSeek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试图设置文件位置指针出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FileException: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ardI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硬件出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FileException: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aringViolatio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 共享出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FileException: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ckViolatio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试图锁定已锁定的区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FileException: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kFull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              磁盘空间已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FileException: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OfFi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到达文件结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914400"/>
            <a:ext cx="7924680" cy="55234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xtern char* pFile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 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File f( pFileName, CFile::modeCreate | CFile::modeWrite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ATCH( CFileException e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 e-&gt;m_cause == CFileException::fileNotFound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      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rintf( "ERROR: File not found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 if( e-&gt;m_cause == CFileException:: diskF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      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rintf( "ERROR: Disk full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 if( e-&gt;m_cause == CFileException:: endOfF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      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rintf( "ERROR: End Of File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ND_C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8:31:54Z</dcterms:created>
  <dc:creator>YangGuoxing</dc:creator>
  <dc:description/>
  <dc:language>en-US</dc:language>
  <cp:lastModifiedBy>YangGuoxing</cp:lastModifiedBy>
  <dcterms:modified xsi:type="dcterms:W3CDTF">2001-08-27T01:27:28Z</dcterms:modified>
  <cp:revision>138</cp:revision>
  <dc:subject/>
  <dc:title>第四章   菜单、快捷键和控制条 </dc:title>
</cp:coreProperties>
</file>